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4.wmf" ContentType="image/x-wmf"/>
  <Override PartName="/ppt/media/image11.png" ContentType="image/png"/>
  <Override PartName="/ppt/media/image13.png" ContentType="image/png"/>
  <Override PartName="/ppt/media/image38.wmf" ContentType="image/x-wmf"/>
  <Override PartName="/ppt/media/image8.wmf" ContentType="image/x-wmf"/>
  <Override PartName="/ppt/media/image12.png" ContentType="image/png"/>
  <Override PartName="/ppt/media/image9.png" ContentType="image/png"/>
  <Override PartName="/ppt/media/image7.wmf" ContentType="image/x-wmf"/>
  <Override PartName="/ppt/media/image37.wmf" ContentType="image/x-wmf"/>
  <Override PartName="/ppt/media/image6.png" ContentType="image/png"/>
  <Override PartName="/ppt/media/image36.png" ContentType="image/png"/>
  <Override PartName="/ppt/media/image30.png" ContentType="image/png"/>
  <Override PartName="/ppt/media/image39.wmf" ContentType="image/x-wmf"/>
  <Override PartName="/ppt/media/image10.png" ContentType="image/png"/>
  <Override PartName="/ppt/media/image5.png" ContentType="image/png"/>
  <Override PartName="/ppt/media/image35.png" ContentType="image/png"/>
  <Override PartName="/ppt/media/image34.wmf" ContentType="image/x-wmf"/>
  <Override PartName="/ppt/media/image4.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5.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3764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1F52-644B-4403-9F7A-B25DBAFDE19E}"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E080-AFA4-4004-A19E-AB296F7C0BD5}"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9"/>
          <p:cNvSpPr/>
          <p:nvPr/>
        </p:nvSpPr>
        <p:spPr>
          <a:xfrm>
            <a:off x="7452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72E8-8396-4A2C-8F40-CA2C4F9577B9}"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4" name="Text Box 10"/>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835F-EB5D-41D9-B2D2-F2BAB584348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ied Income Statement</a:t>
            </a:r>
            <a:endParaRPr b="1" lang="en-US" sz="2400" spc="-1" strike="noStrike">
              <a:solidFill>
                <a:srgbClr val="000000"/>
              </a:solidFill>
              <a:latin typeface="Arial"/>
            </a:endParaRPr>
          </a:p>
        </p:txBody>
      </p:sp>
      <p:sp>
        <p:nvSpPr>
          <p:cNvPr id="11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5000"/>
          </a:bodyPr>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OG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Gross Margin</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G&amp;A</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Expens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DA</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Depreciation and Amortization</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terest Expense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T</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come Tax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et Incom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EBIT x (1-tax rat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Net Income + Interest Expense x (1-tax)</a:t>
            </a:r>
            <a:endParaRPr b="0" lang="en-US" sz="1400" spc="-1" strike="noStrike">
              <a:solidFill>
                <a:srgbClr val="000000"/>
              </a:solidFill>
              <a:latin typeface="Arial"/>
            </a:endParaRPr>
          </a:p>
        </p:txBody>
      </p:sp>
      <p:sp>
        <p:nvSpPr>
          <p:cNvPr id="115" name="Text Box 4"/>
          <p:cNvSpPr/>
          <p:nvPr/>
        </p:nvSpPr>
        <p:spPr>
          <a:xfrm>
            <a:off x="4495680" y="1981080"/>
            <a:ext cx="2971800" cy="248328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bate about how to handle other income from non-consolidated subsidiary compan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chool of thought (McKinsey) is that they should be valued separately since they will have different cost of capital e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do not include in EBITDA and remove the asset balance from the invested capital.  Must be consistent</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Income Statement – Computation of EBITDA, Minority Interest, Preferred Dividends, Exploration Expense</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 Analysi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Adjustments to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EBITDAX)</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al and Lease Payments (EBITD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Computation</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Down – move other income</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up (Indirec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Notes</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come out of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Expense not in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Non-cash Expenses</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Mining Costs </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come</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Analysis – Real World Example</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uisse First Boston estimated the present value of the stand-alone, </a:t>
            </a:r>
            <a:r>
              <a:rPr b="1" i="1" lang="en-US" sz="1600" spc="-1" strike="noStrike">
                <a:solidFill>
                  <a:srgbClr val="3366cc"/>
                </a:solidFill>
                <a:latin typeface="Arial"/>
              </a:rPr>
              <a:t>Unlevered, after-tax free cash flows</a:t>
            </a:r>
            <a:r>
              <a:rPr b="0" lang="en-US" sz="1600" spc="-1" strike="noStrike">
                <a:solidFill>
                  <a:srgbClr val="000000"/>
                </a:solidFill>
                <a:latin typeface="Arial"/>
              </a:rPr>
              <a:t> that Texaco could produce over calendar years 2001 through 2004 and that Chevron could produce over the same period. The analysis was based on estimates of the managements of Texaco and Chevron adjusted, as reviewed by or discussed with Texaco management, to reflect, among other things, differing assumptions about future oil and gas pric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of estimated terminal values were calculated by multiplying estimated calendar year 2004 earnings before interest, taxes, depreciation, amortization and exploration expense, commonly referred to as EBITDAX, by terminal EBITDAX multiples of 6.5x to 7.5x in the case of both Texaco and Chevron.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un-levered after-tax free cash flows and estimated terminal values were then discounted to present value </a:t>
            </a:r>
            <a:r>
              <a:rPr b="1" i="1" lang="en-US" sz="1600" spc="-1" strike="noStrike">
                <a:solidFill>
                  <a:srgbClr val="3366cc"/>
                </a:solidFill>
                <a:latin typeface="Arial"/>
              </a:rPr>
              <a:t>using discount rates of 9.0 percent to 10.0 percent</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analysis indicated an implied exchange ratio reference range of 0.56x to 0.80x.</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debate the treatment of employee stock options for EBITDA, free cash flow and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stock to employe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reatment has changed over the years and it is a significant expense, make adjustments to current or prior statements for consistenc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free shares to employees.  The value of existing shareholders is dilute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this is two things</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mployees are compensated and the cash should be accounted for</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invested capital is increased and the new equity should be included in the capital bas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Statement</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Cash Flow Statement has separation between</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maintain and grow operations) and</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how much cash flow the company generated and how it raised funds or disposed fund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statement as a basis to compute free cash flow although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Arial"/>
              </a:rPr>
              <a:t>Problem: Interest Expense – related to financing and not operations – is in the Net Income and is included in Cash From Operations</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Flow Statement</a:t>
            </a:r>
            <a:endParaRPr b="1" lang="en-US" sz="2400" spc="-1" strike="noStrike">
              <a:solidFill>
                <a:srgbClr val="000000"/>
              </a:solidFill>
              <a:latin typeface="Arial"/>
            </a:endParaRPr>
          </a:p>
        </p:txBody>
      </p:sp>
      <p:sp>
        <p:nvSpPr>
          <p:cNvPr id="1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era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t Income including interest expense, interest income an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epreci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Deferre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orking Capital Chang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Minority Interest on Income Statement and Other Items</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ves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pital Expenditure and Asset Purchas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ale of Property, Plant, &amp; Equip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rporate Investment</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inanc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Dividend Paym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Proceeds from Equity or Debt Issuanc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quity Repurchased</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ebt Principal Payments</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Example</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143000"/>
            <a:ext cx="8381880" cy="49165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ion of Free Cash Flow</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term cash flow has many uses.  For example, operating cash flow is net income plus depreci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cash flow that is available to investors – </a:t>
            </a:r>
            <a:r>
              <a:rPr b="0" lang="en-US" sz="1800" spc="-1" strike="noStrike">
                <a:solidFill>
                  <a:srgbClr val="6600ff"/>
                </a:solidFill>
                <a:latin typeface="Arial"/>
              </a:rPr>
              <a:t>FREE  of obligations such as capital expenditures and taxes -- to </a:t>
            </a:r>
            <a:r>
              <a:rPr b="0" lang="en-US" sz="1800" spc="-1" strike="noStrike">
                <a:solidFill>
                  <a:srgbClr val="000000"/>
                </a:solidFill>
                <a:latin typeface="Arial"/>
              </a:rPr>
              <a:t>both debt and equity investors – after re-investing in plant, and financing and paying tax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 define cash flow from operations as net income plus depreciation and other non-cash items less changes in working capital.  However, this cash flow is not available for distribution to equity holders and debt holders.  The free cash flow must account for capital expenditures, repayments of debt, deferred items and other factor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consists of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equity holde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hold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Contents</a:t>
            </a:r>
            <a:endParaRPr b="1" lang="en-US" sz="1800" spc="-1" strike="noStrike">
              <a:solidFill>
                <a:srgbClr val="000000"/>
              </a:solidFill>
              <a:latin typeface="Arial"/>
            </a:endParaRPr>
          </a:p>
        </p:txBody>
      </p:sp>
      <p:sp>
        <p:nvSpPr>
          <p:cNvPr id="9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objective of financial statement analysi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nd Re-formatting Statements for Financial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Statement – EBITDA and NOPLA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Statement - Free Cash Flow and Equity Cash Flow</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analysi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 Driv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Slid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Calculation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conomic Profit</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Context – Miller and Modigliani</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ory that changed finance in 1958</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alue assets on fundamental operating characteristics such as the capacity utilisation, the cost and the efficiency of assets and not the manner in which assets are financed – debt versus equity or the manner in which assets are hedg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is has led to the discounted cash flow model that underlies most valu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roof was based on a simple arbitrage idea that you could buy stock in a company that has no debt and then borrow against the stock.  This will yield the same results as if the company borrowed money instead of you.</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implication of this is that project finance is irrelevan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Distinction in Financial Analysis – Free Cash Flow and Equity Cash Flow</a:t>
            </a:r>
            <a:endParaRPr b="1" lang="en-US" sz="2000" spc="-1" strike="noStrike">
              <a:solidFill>
                <a:srgbClr val="000000"/>
              </a:solidFill>
              <a:latin typeface="Arial"/>
            </a:endParaRPr>
          </a:p>
        </p:txBody>
      </p:sp>
      <p:sp>
        <p:nvSpPr>
          <p:cNvPr id="13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that is independent from financing</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 managing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 on free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pay debt oblig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s unbiased by capital structure polic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quity securiti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for shareholde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ree Cash Flow</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Definitions, but one correct concep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s Also Known As </a:t>
            </a:r>
            <a:r>
              <a:rPr b="0" lang="en-BS" sz="1600" spc="-1" strike="noStrike">
                <a:solidFill>
                  <a:srgbClr val="000000"/>
                </a:solidFill>
                <a:latin typeface="Arial"/>
              </a:rPr>
              <a:t>Unleveraged</a:t>
            </a:r>
            <a:r>
              <a:rPr b="0" lang="en-US" sz="1600" spc="-1" strike="noStrike">
                <a:solidFill>
                  <a:srgbClr val="000000"/>
                </a:solidFill>
                <a:latin typeface="Arial"/>
              </a:rPr>
              <a:t>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veraged Cash Flow Is Not Distorted By The Capital Structur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not change when the capital structure chang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be the same as equity cash flow if no debt is outstanding and not cash balances are built up.</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Free Cash Flow Defines Enterprise Value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evant Discount Rate Is The Unlevered Discount Rate or the Weighted Average Cost of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Free Cash Flow is the Project IRR</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Economic Val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 – Carrying Charge = Economic Profit</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Flow Statement in Financial Model</a:t>
            </a:r>
            <a:endParaRPr b="1" lang="en-US" sz="18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in Cash Flow Statement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Cash Flow before Financing </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 minus Capital Expenditur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Before Financing in Deriving Free Cash Flow</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Cash Investmen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Before Financing less Maturities plus New Debt Issue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Line on Cash Flow Statement Includ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ash Balance</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Short-term Debt or Overdraf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Change = Ending Cash</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of STD + Change = Ending Short-term Debt</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ormula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cash flow can be computed from the income statement or from the cash flow state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ash flow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ncome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t of Tax Interes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preciation, Deferred Taxes and Other Non-Cash Change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hanges in Working Capital</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p:txBody>
      </p:sp>
      <p:sp>
        <p:nvSpPr>
          <p:cNvPr id="143" name="Text Box 6"/>
          <p:cNvSpPr/>
          <p:nvPr/>
        </p:nvSpPr>
        <p:spPr>
          <a:xfrm>
            <a:off x="5791320" y="2209680"/>
            <a:ext cx="2514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gue that free cash flow should not include non-operating items.  Here the non-consolidated companies are treated in a similar manner as liquid investment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rom NOPLA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can be computed using the notion of net operating profit less adjusted tax as follows (assuming no extraordinary incom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Net Interest after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ferred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NOPLA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Compute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preci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hange in Working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apital Expenditur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Free Cash Flo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762120" y="1523880"/>
            <a:ext cx="7924680" cy="4648320"/>
          </a:xfrm>
          <a:prstGeom prst="rect">
            <a:avLst/>
          </a:prstGeom>
          <a:ln w="0">
            <a:noFill/>
          </a:ln>
        </p:spPr>
      </p:pic>
      <p:sp>
        <p:nvSpPr>
          <p:cNvPr id="148" name="Text Box 4"/>
          <p:cNvSpPr/>
          <p:nvPr/>
        </p:nvSpPr>
        <p:spPr>
          <a:xfrm>
            <a:off x="6172200" y="41148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situations, must adjust the free cash flow for deferred tax</a:t>
            </a:r>
            <a:endParaRPr b="0" lang="en-US" sz="1200" spc="-1" strike="noStrike">
              <a:solidFill>
                <a:srgbClr val="000000"/>
              </a:solidFill>
              <a:latin typeface="Arial"/>
            </a:endParaRPr>
          </a:p>
        </p:txBody>
      </p:sp>
      <p:sp>
        <p:nvSpPr>
          <p:cNvPr id="149" name="Line 5"/>
          <p:cNvSpPr/>
          <p:nvPr/>
        </p:nvSpPr>
        <p:spPr>
          <a:xfrm flipH="1">
            <a:off x="2133720" y="4495680"/>
            <a:ext cx="3962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5257800" y="457200"/>
            <a:ext cx="2895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One could make adjustments for dividends payable, interest payable and other items in the working capital analysis.</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hen analysing the balance sheet, various items should be adjusted and grouped together:</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Debt</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otal short and long term debt minus liquid investments held and surplus cash</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Bucket </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For modelling, subtract short-term debt from surplus cash and liquid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urplus Cash</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lude temporary investments and also include long-term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urrent Assets and Current Liabilitie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eparate the surplus cash from current assets and the debt from current liabilities and relate remaining working capital items to revenue and expense item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Issues</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surplus cash as negative debt and debt as negative cas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 cash is 2% of revenu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when developing a basic cash flow model, group the cash and the debt as one account and then separate this account on the balance shee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unded pension expenses should be treated like debt – they involve a fixed obligation and they can be replaced with debt when they are fund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depend on the way deferred taxes are modelled for cash flow purposes.  If you model future changes in deferred taxes and take account of these in projections, do not put deferred taxes as a component of equity.</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 Introduction</a:t>
            </a:r>
            <a:endParaRPr b="1" lang="en-US" sz="1800" spc="-1" strike="noStrike">
              <a:solidFill>
                <a:srgbClr val="000000"/>
              </a:solidFill>
              <a:latin typeface="Arial"/>
            </a:endParaRPr>
          </a:p>
        </p:txBody>
      </p:sp>
      <p:sp>
        <p:nvSpPr>
          <p:cNvPr id="1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7000"/>
          </a:bodyPr>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should </a:t>
            </a:r>
            <a:r>
              <a:rPr b="1" i="1" lang="en-US" sz="1800" spc="-1" strike="noStrike">
                <a:solidFill>
                  <a:srgbClr val="3366cc"/>
                </a:solidFill>
                <a:latin typeface="Arial"/>
              </a:rPr>
              <a:t>tell a story</a:t>
            </a:r>
            <a:r>
              <a:rPr b="0" lang="en-US" sz="1800" spc="-1" strike="noStrike">
                <a:solidFill>
                  <a:srgbClr val="000000"/>
                </a:solidFill>
                <a:latin typeface="Arial"/>
              </a:rPr>
              <a:t> about the company – How profitable is the company, what are the trends, how much risk is there etc.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to be effective at financial modeling and financial analysis.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also important in:</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ssing management performance of a company and whether projections of improvement or sustainability are reasonabl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value of a company from historic performanc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reasonableness of financial projections provided by a company or the validity of earnings projections</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whether the financial structure of a company is of investment grade qual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quity Balance</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like the return on equity and the return on invested capital to measure equity invested by shareholders for return on investment and return on equit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using equity balance on the balance sheet to measure equity investme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ffs of pla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Other Comprehensive Income</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losses</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ke adjustments to equity balance</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atio Analysis</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sion between Equity Analysis and Asset Analysis</a:t>
            </a:r>
            <a:endParaRPr b="1" lang="en-US" sz="1800" spc="-1" strike="noStrike">
              <a:solidFill>
                <a:srgbClr val="000000"/>
              </a:solidFill>
              <a:latin typeface="Arial"/>
            </a:endParaRPr>
          </a:p>
        </p:txBody>
      </p:sp>
      <p:sp>
        <p:nvSpPr>
          <p:cNvPr id="160" name="PlaceHolder 2"/>
          <p:cNvSpPr>
            <a:spLocks noGrp="1"/>
          </p:cNvSpPr>
          <p:nvPr>
            <p:ph/>
          </p:nvPr>
        </p:nvSpPr>
        <p:spPr>
          <a:xfrm>
            <a:off x="762120" y="1523880"/>
            <a:ext cx="388440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ree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ROC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Replacement Cost</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801680" y="1523880"/>
            <a:ext cx="388476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1600" spc="-1" strike="noStrike">
                <a:solidFill>
                  <a:srgbClr val="0066cc"/>
                </a:solidFill>
                <a:latin typeface="Arial"/>
              </a:rPr>
              <a:t>Equity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Equity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O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st of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Capitalis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to Book Ratio</a:t>
            </a:r>
            <a:endParaRPr b="0" lang="en-US" sz="1600" spc="-1" strike="noStrike">
              <a:solidFill>
                <a:srgbClr val="000000"/>
              </a:solidFill>
              <a:latin typeface="Arial"/>
            </a:endParaRPr>
          </a:p>
        </p:txBody>
      </p:sp>
      <p:sp>
        <p:nvSpPr>
          <p:cNvPr id="162" name="Text Box 5"/>
          <p:cNvSpPr/>
          <p:nvPr/>
        </p:nvSpPr>
        <p:spPr>
          <a:xfrm>
            <a:off x="1066680" y="4724280"/>
            <a:ext cx="6324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Value of Business Units = Debt + Equity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ratio analysis, cash = negative debt</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 and IRR Exercise</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
        <p:nvSpPr>
          <p:cNvPr id="165" name="Text Box 4"/>
          <p:cNvSpPr/>
          <p:nvPr/>
        </p:nvSpPr>
        <p:spPr>
          <a:xfrm>
            <a:off x="6477120" y="1447920"/>
            <a:ext cx="2133360" cy="341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we raise to a power with two year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 =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 = 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atio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on between two or more economically important items (one is the starting point for further analysis)</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n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analysis is important (deferred taxes etc.)</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ation is key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es the P/E mea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interest coverage of 3.5 goo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ROIC 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use MB, PE or EV/EBITDA</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financial ratios (numerator and denominator) with footnotes and commen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components of numerator and denominator in rows above the ratio calculation</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Often Compares Income Statement or Cash Flow with Balance Shee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ing ratios, understand why the formula is developed (e.g. other income and other investments in return on invested capital)</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 Necessarily One Single Correct Formula</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pre-tax or after-tax return on asse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numerator consistent with the denominato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should be evaluated in the context of benchmark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atios and bond rating standard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and cost of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atios and histor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of Financial Ratios</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measure the historic economic performance of management and evaluate whether the economic performance can be maintained (e.g. ROI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are used to give an indication of the value of the company (e.g. P/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gauge the credit quality and liquidity of the company (e.g. Interest coverage and current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E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used to evaluate the assumptions and mechanics of financial forecas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s that Measure Management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E versus Cost of Equity</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IC versus WACC</a:t>
            </a:r>
            <a:endParaRPr b="0" lang="en-US" sz="1600" spc="-1" strike="noStrike">
              <a:solidFill>
                <a:srgbClr val="000000"/>
              </a:solidFill>
              <a:latin typeface="Arial"/>
            </a:endParaRPr>
          </a:p>
        </p:txBody>
      </p:sp>
      <p:sp>
        <p:nvSpPr>
          <p:cNvPr id="17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WACC and Growth</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before interest and the return covers both debt and equity financing – EBIT is before interest and investment includes both debt and equity invest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the blended average of debt and equity required retur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versus WACC measures the ability to make true economic profi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ave economic profit, should grow the business as much as possible.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 of Financial Statement Analysis</a:t>
            </a:r>
            <a:endParaRPr b="1" lang="en-US" sz="1800" spc="-1" strike="noStrike">
              <a:solidFill>
                <a:srgbClr val="000000"/>
              </a:solidFill>
              <a:latin typeface="Arial"/>
            </a:endParaRPr>
          </a:p>
        </p:txBody>
      </p:sp>
      <p:sp>
        <p:nvSpPr>
          <p:cNvPr id="10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like detective work – How can we use information in financial statements to make assessments of various issues.  The financials should </a:t>
            </a:r>
            <a:r>
              <a:rPr b="1" i="1" lang="en-US" sz="1800" spc="-1" strike="noStrike">
                <a:solidFill>
                  <a:srgbClr val="0066cc"/>
                </a:solidFill>
                <a:latin typeface="Arial"/>
              </a:rPr>
              <a:t>paint a picture</a:t>
            </a:r>
            <a:r>
              <a:rPr b="0" lang="en-US" sz="1800" spc="-1" strike="noStrike">
                <a:solidFill>
                  <a:srgbClr val="000000"/>
                </a:solidFill>
                <a:latin typeface="Arial"/>
              </a:rPr>
              <a:t> of what has happened to the compan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quickly review the income statement, balance sheet and cash flow statement to determine how the stock market value of a company compares to inherent valu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look the financial statements and assess risks associated with a company and whether the company has sufficient cash flow to pay off debt.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and valuation are about projecting the future  -- how can financial statement analysis be used in making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n any financial analysis and valuation is that measuring risk is very difficult</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718920"/>
            <a:ext cx="7772400" cy="579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Economic Principles, ROIC and Financial Analysis</a:t>
            </a:r>
            <a:endParaRPr b="1" lang="en-US" sz="1800" spc="-1" strike="noStrike">
              <a:solidFill>
                <a:srgbClr val="000000"/>
              </a:solidFill>
              <a:latin typeface="Arial"/>
            </a:endParaRPr>
          </a:p>
        </p:txBody>
      </p:sp>
      <p:sp>
        <p:nvSpPr>
          <p:cNvPr id="17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easure value, you are gauging the ability of a firm to realize economic profit.  For example, when you compare the equity IRR with the equity cost of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ssess assumptions in a financial forecast, you must assess whether economic profit implicit in the assumptions can in fact be realized.  For example, if the financial forecast has a very high ROE, is that reasonabl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interpret financial statistics, you are gauging the strategy of the company in terms of whether economic profit is being realized.  In reviewing the return on invested capital, does this demonstrate that the company has the potential to earn economic profi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609120"/>
            <a:ext cx="75787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 on Invested Capital Analysis</a:t>
            </a:r>
            <a:endParaRPr b="1" lang="en-US" sz="1800" spc="-1" strike="noStrike">
              <a:solidFill>
                <a:srgbClr val="000000"/>
              </a:solidFill>
              <a:latin typeface="Arial"/>
            </a:endParaRPr>
          </a:p>
        </p:txBody>
      </p:sp>
      <p:sp>
        <p:nvSpPr>
          <p:cNvPr id="18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not distorted by the leverage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gauge economic profit and whether the company should grow op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assess the reasonableness of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OIC is very high and the company is in a competitive business with few barriers to entry, the forecast is probably not realisti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computed on a division basis EBIT and allocation of capital to divisions from net assets to gauge the profit of parts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omes from sustainable competitive advantage and high market shar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600200" y="2438280"/>
            <a:ext cx="7162920" cy="1600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p:nvPr>
        </p:nvSpPr>
        <p:spPr>
          <a:xfrm>
            <a:off x="9903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C = EBITAT/Invested Capita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ITAT: Earnings before Interest Taxes and Goodwill Amortization less taxes on EBITA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on EBITAT:  Cash Income Taxes Less Tax on Interest Expense and Interest Income and Tax on Non-operating Incom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ed Capital less cash balance</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sse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Balance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anagement Performance Evaluation</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Formula: ROIC versus WACC</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compute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verage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include goodwill – If goodwill is not included, compute NOPLAT without subtracting goodwill write-off and subtract net goodwill from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invested capital by surplus cash balance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don’t include other income – then the invested capital should be reduced by other investment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with ratios</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 x (1-t) * Asset Turn</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Turn = Sales/Assets; EBIT Margin = EBIT/Sales  </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vs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is generally computed in an indirect way by starting with net income, and adding net of tax interest and adding minorities</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verage capital employed (ROCE) is a performance measure ratio. From the perspective of the business segments, ROCE is annual business segment earnings divided by average business segment capital employed (average of beginning and end-of-year amount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egment earnings include ExxonMobil’s share of segment earnings of equity companies, consistent with our capital employed definition, and </a:t>
            </a:r>
            <a:r>
              <a:rPr b="1" i="1" lang="en-US" sz="1600" spc="-1" strike="noStrike">
                <a:solidFill>
                  <a:srgbClr val="000000"/>
                </a:solidFill>
                <a:latin typeface="Arial"/>
              </a:rPr>
              <a:t>exclude the cost of financing.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ion’s total ROCE is net income excluding the after-tax cost of financing, divided by total corporate average capital employed. The corporation has consistently applied its ROCE definition for many years and views it as the </a:t>
            </a:r>
            <a:r>
              <a:rPr b="1" i="1" lang="en-US" sz="1600" spc="-1" strike="noStrike">
                <a:solidFill>
                  <a:srgbClr val="000000"/>
                </a:solidFill>
                <a:latin typeface="Arial"/>
              </a:rPr>
              <a:t>best measure of historical capital productivity in our capital intensive long-term industry, both to evaluate management’s performance and to demonstrate to shareholders that capital has been used wisely over the long term</a:t>
            </a:r>
            <a:r>
              <a:rPr b="0" lang="en-US" sz="1600" spc="-1" strike="noStrike">
                <a:solidFill>
                  <a:srgbClr val="000000"/>
                </a:solidFill>
                <a:latin typeface="Arial"/>
              </a:rPr>
              <a:t>. Additional measures, which tend to be more cash flow based, are used for future investment decisions. </a:t>
            </a:r>
            <a:endParaRPr b="0" lang="en-US" sz="1600" spc="-1" strike="noStrike">
              <a:solidFill>
                <a:srgbClr val="000000"/>
              </a:solidFill>
              <a:latin typeface="Arial"/>
            </a:endParaRPr>
          </a:p>
        </p:txBody>
      </p:sp>
      <p:sp>
        <p:nvSpPr>
          <p:cNvPr id="187"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Average Capital Employed</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 Employed – Where are they making expenditure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a:t>
            </a:r>
            <a:endParaRPr b="1" lang="en-US" sz="2000" spc="-1" strike="noStrike">
              <a:solidFill>
                <a:srgbClr val="000000"/>
              </a:solidFill>
              <a:latin typeface="Arial"/>
            </a:endParaRPr>
          </a:p>
        </p:txBody>
      </p:sp>
      <p:pic>
        <p:nvPicPr>
          <p:cNvPr id="191" name="Picture 4" descr=""/>
          <p:cNvPicPr/>
          <p:nvPr/>
        </p:nvPicPr>
        <p:blipFill>
          <a:blip r:embed="rId1"/>
          <a:stretch/>
        </p:blipFill>
        <p:spPr>
          <a:xfrm>
            <a:off x="838080" y="1676520"/>
            <a:ext cx="6723360" cy="3049560"/>
          </a:xfrm>
          <a:prstGeom prst="rect">
            <a:avLst/>
          </a:prstGeom>
          <a:ln w="0">
            <a:noFill/>
          </a:ln>
        </p:spPr>
      </p:pic>
      <p:graphicFrame>
        <p:nvGraphicFramePr>
          <p:cNvPr id="192" name=""/>
          <p:cNvGraphicFramePr/>
          <p:nvPr/>
        </p:nvGraphicFramePr>
        <p:xfrm>
          <a:off x="1143000" y="4952880"/>
          <a:ext cx="5867280" cy="549360"/>
        </p:xfrm>
        <a:graphic>
          <a:graphicData uri="http://schemas.openxmlformats.org/drawingml/2006/table">
            <a:tbl>
              <a:tblPr/>
              <a:tblGrid>
                <a:gridCol w="2933640"/>
                <a:gridCol w="293364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Times New Roman"/>
                          <a:ea typeface="Times New Roman"/>
                        </a:rPr>
                        <a:t>(1)</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a:t>
                      </a:r>
                      <a:r>
                        <a:rPr b="0" i="1" lang="en-GB" sz="1000" spc="-1" strike="noStrike">
                          <a:solidFill>
                            <a:srgbClr val="000000"/>
                          </a:solidFill>
                          <a:latin typeface="Times New Roman"/>
                          <a:ea typeface="Times New Roman"/>
                        </a:rPr>
                        <a:t>All other financing costs – net” in 2003 includes interest income (after tax) associated with the settlement of a U.S. tax dispute.</a:t>
                      </a: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3" name="Rectangle 17"/>
          <p:cNvSpPr/>
          <p:nvPr/>
        </p:nvSpPr>
        <p:spPr>
          <a:xfrm>
            <a:off x="1440" y="3534840"/>
            <a:ext cx="201960" cy="18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 </a:t>
            </a:r>
            <a:endParaRPr b="0" lang="en-US" sz="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OIC Calculation - AES</a:t>
            </a:r>
            <a:endParaRPr b="1" lang="en-US" sz="2000" spc="-1" strike="noStrike">
              <a:solidFill>
                <a:srgbClr val="000000"/>
              </a:solidFill>
              <a:latin typeface="Arial"/>
            </a:endParaRPr>
          </a:p>
        </p:txBody>
      </p:sp>
      <p:pic>
        <p:nvPicPr>
          <p:cNvPr id="195" name="Picture 4" descr=""/>
          <p:cNvPicPr/>
          <p:nvPr/>
        </p:nvPicPr>
        <p:blipFill>
          <a:blip r:embed="rId1"/>
          <a:stretch/>
        </p:blipFill>
        <p:spPr>
          <a:xfrm>
            <a:off x="1523880" y="1523880"/>
            <a:ext cx="6400800" cy="46483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Invested Capital Computation</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E and ROIC – Note how to compute growth rates from ROE and Retention</a:t>
            </a:r>
            <a:endParaRPr b="1" lang="en-US" sz="2000" spc="-1" strike="noStrike">
              <a:solidFill>
                <a:srgbClr val="000000"/>
              </a:solidFill>
              <a:latin typeface="Arial"/>
            </a:endParaRPr>
          </a:p>
        </p:txBody>
      </p:sp>
      <p:pic>
        <p:nvPicPr>
          <p:cNvPr id="199" name="Picture 12"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Counting and Judgments in Financial Ratio Analysi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alyzing financial statements judgments must be made in computing key data such as EBITDA and in developing financial ratio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or not to include Other Income in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ther income not in EBITDA, then should not add non-consolidated subsidiary companies in invested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taken out of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sistent between companies with different accounting polici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ROIC with or without goodwill depending on analysis iss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f include or exclude do for both income and balanc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of minority interest is in EBITDA, therefore must include financing of minority interest in invested capital</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key principle is that the financial data and the financial ratios are consistent and logical – work through simple examples</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turn on Capital Employed (Return on Invested Capital) in Financial Analysis</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28600" y="990720"/>
            <a:ext cx="40384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p:nvPr>
        </p:nvSpPr>
        <p:spPr>
          <a:xfrm>
            <a:off x="1523880" y="1219320"/>
            <a:ext cx="1524240" cy="380880"/>
          </a:xfrm>
          <a:prstGeom prst="rect">
            <a:avLst/>
          </a:prstGeom>
          <a:noFill/>
          <a:ln w="0">
            <a:noFill/>
          </a:ln>
        </p:spPr>
        <p:txBody>
          <a:bodyPr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Arial"/>
            </a:endParaRPr>
          </a:p>
        </p:txBody>
      </p:sp>
      <p:sp>
        <p:nvSpPr>
          <p:cNvPr id="204" name="Text Box 4"/>
          <p:cNvSpPr/>
          <p:nvPr/>
        </p:nvSpPr>
        <p:spPr>
          <a:xfrm>
            <a:off x="611280" y="1752480"/>
            <a:ext cx="369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Margin = Gross prof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costs/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 EBIT Margin (EB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4648320" y="990720"/>
            <a:ext cx="42670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ext Box 6"/>
          <p:cNvSpPr/>
          <p:nvPr/>
        </p:nvSpPr>
        <p:spPr>
          <a:xfrm>
            <a:off x="5487840" y="11430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Utilization</a:t>
            </a:r>
            <a:endParaRPr b="0" lang="en-US" sz="1800" spc="-1" strike="noStrike">
              <a:solidFill>
                <a:srgbClr val="000000"/>
              </a:solidFill>
              <a:latin typeface="Arial"/>
            </a:endParaRPr>
          </a:p>
        </p:txBody>
      </p:sp>
      <p:sp>
        <p:nvSpPr>
          <p:cNvPr id="207" name="Text Box 7"/>
          <p:cNvSpPr/>
          <p:nvPr/>
        </p:nvSpPr>
        <p:spPr>
          <a:xfrm>
            <a:off x="4958280" y="1523880"/>
            <a:ext cx="3944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vided by 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s: Asset Turno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Capital Employed)</a:t>
            </a:r>
            <a:endParaRPr b="0" lang="en-US" sz="1800" spc="-1" strike="noStrike">
              <a:solidFill>
                <a:srgbClr val="000000"/>
              </a:solidFill>
              <a:latin typeface="Arial"/>
            </a:endParaRPr>
          </a:p>
        </p:txBody>
      </p:sp>
      <p:sp>
        <p:nvSpPr>
          <p:cNvPr id="208" name="AutoShape 8"/>
          <p:cNvSpPr/>
          <p:nvPr/>
        </p:nvSpPr>
        <p:spPr>
          <a:xfrm>
            <a:off x="167652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9"/>
          <p:cNvSpPr/>
          <p:nvPr/>
        </p:nvSpPr>
        <p:spPr>
          <a:xfrm>
            <a:off x="586728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10"/>
          <p:cNvSpPr/>
          <p:nvPr/>
        </p:nvSpPr>
        <p:spPr>
          <a:xfrm>
            <a:off x="1523880" y="502920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Capital Employed )</a:t>
            </a:r>
            <a:endParaRPr b="0" lang="en-US" sz="1800" spc="-1" strike="noStrike">
              <a:solidFill>
                <a:srgbClr val="000000"/>
              </a:solidFill>
              <a:latin typeface="Arial"/>
            </a:endParaRPr>
          </a:p>
        </p:txBody>
      </p:sp>
      <p:sp>
        <p:nvSpPr>
          <p:cNvPr id="211" name="Text Box 11"/>
          <p:cNvSpPr/>
          <p:nvPr/>
        </p:nvSpPr>
        <p:spPr>
          <a:xfrm>
            <a:off x="3660840" y="39625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p:txBody>
      </p:sp>
      <p:sp>
        <p:nvSpPr>
          <p:cNvPr id="212" name="Text Box 12"/>
          <p:cNvSpPr/>
          <p:nvPr/>
        </p:nvSpPr>
        <p:spPr>
          <a:xfrm>
            <a:off x="2594880" y="54100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 (1 minus Tax Rate)</a:t>
            </a:r>
            <a:endParaRPr b="0" lang="en-US" sz="1800" spc="-1" strike="noStrike">
              <a:solidFill>
                <a:srgbClr val="000000"/>
              </a:solidFill>
              <a:latin typeface="Arial"/>
            </a:endParaRPr>
          </a:p>
        </p:txBody>
      </p:sp>
      <p:sp>
        <p:nvSpPr>
          <p:cNvPr id="213" name="Rectangle 13"/>
          <p:cNvSpPr/>
          <p:nvPr/>
        </p:nvSpPr>
        <p:spPr>
          <a:xfrm>
            <a:off x="1523880" y="579132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after Tax/ Capital Employed )</a:t>
            </a:r>
            <a:endParaRPr b="0" lang="en-US" sz="1800" spc="-1" strike="noStrike">
              <a:solidFill>
                <a:srgbClr val="000000"/>
              </a:solidFill>
              <a:latin typeface="Arial"/>
            </a:endParaRPr>
          </a:p>
        </p:txBody>
      </p:sp>
      <p:sp>
        <p:nvSpPr>
          <p:cNvPr id="21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Various Ratios and DuPont Analysis</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2: Financial Indicators of Market Value</a:t>
            </a:r>
            <a:endParaRPr b="1" lang="en-US" sz="1800" spc="-1" strike="noStrike">
              <a:solidFill>
                <a:srgbClr val="000000"/>
              </a:solidFill>
              <a:latin typeface="Arial"/>
            </a:endParaRPr>
          </a:p>
        </p:txBody>
      </p:sp>
      <p:sp>
        <p:nvSpPr>
          <p:cNvPr id="2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can be used to analyze whether the valuation of a company is appropriate.  Analysts should understand the drivers of different ratios.  Valuation Ratios include:</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to Earnings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EBITDA</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P/E to Earnings Growth)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pecific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Reserv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Custom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Plane Seat</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tios and Benchmarks</a:t>
            </a:r>
            <a:endParaRPr b="1" lang="en-US" sz="2000" spc="-1" strike="noStrike">
              <a:solidFill>
                <a:srgbClr val="000000"/>
              </a:solidFill>
              <a:latin typeface="Arial"/>
            </a:endParaRPr>
          </a:p>
        </p:txBody>
      </p:sp>
      <p:sp>
        <p:nvSpPr>
          <p:cNvPr id="21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measure the stock market value of a company relative to some accounting measure such as EPS, EBITDA, Book Value/Share or growth in EP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s can be used as benchmarks in valuing non-traded companies by using industry average valuation rat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o value non-traded company:</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pany = EPS of Company x Industry Average P/E Rat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will be further discussed in the portion of the course where corporate models are used to value compan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 – Generally use forward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g/r)/(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EV Ratios and Computation of Market Value of Balance Sheet Components</a:t>
            </a:r>
            <a:endParaRPr b="1" lang="en-US" sz="2000" spc="-1" strike="noStrike">
              <a:solidFill>
                <a:srgbClr val="000000"/>
              </a:solidFill>
              <a:latin typeface="Arial"/>
            </a:endParaRPr>
          </a:p>
        </p:txBody>
      </p:sp>
      <p:pic>
        <p:nvPicPr>
          <p:cNvPr id="223"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Comparable Multiples</a:t>
            </a:r>
            <a:endParaRPr b="1" lang="en-US" sz="2000" spc="-1" strike="noStrike">
              <a:solidFill>
                <a:srgbClr val="000000"/>
              </a:solidFill>
              <a:latin typeface="Arial"/>
            </a:endParaRPr>
          </a:p>
        </p:txBody>
      </p:sp>
      <p:pic>
        <p:nvPicPr>
          <p:cNvPr id="22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in Valuation</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run P/E ratio is often used in valuation.  This process involv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table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E Ratio using formula</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 (1-g/r)/(k-g)</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growth in EPS or Net Income</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ate of return earned on equity</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cost of equity capital</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Formula for terminal value with NOPLAT (EBITAT)</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g/ROIC)/(WACC – g)</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demonstrates where value really comes from</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of Debt and Analysis of Credit Spread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06120" y="681120"/>
            <a:ext cx="734076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Liquidity and Solvency</a:t>
            </a:r>
            <a:endParaRPr b="1" lang="en-US" sz="2000" spc="-1" strike="noStrike">
              <a:solidFill>
                <a:srgbClr val="000000"/>
              </a:solidFill>
              <a:latin typeface="Arial"/>
            </a:endParaRPr>
          </a:p>
        </p:txBody>
      </p:sp>
      <p:sp>
        <p:nvSpPr>
          <p:cNvPr id="232" name="PlaceHolder 2"/>
          <p:cNvSpPr>
            <a:spLocks noGrp="1"/>
          </p:cNvSpPr>
          <p:nvPr>
            <p:ph/>
          </p:nvPr>
        </p:nvSpPr>
        <p:spPr>
          <a:xfrm>
            <a:off x="456840" y="2666520"/>
            <a:ext cx="3886200" cy="2971800"/>
          </a:xfrm>
          <a:prstGeom prst="rect">
            <a:avLst/>
          </a:prstGeom>
          <a:solidFill>
            <a:srgbClr val="ffffff"/>
          </a:solidFill>
          <a:ln w="76320">
            <a:solidFill>
              <a:srgbClr val="000000"/>
            </a:solidFill>
            <a:miter/>
          </a:ln>
        </p:spPr>
        <p:txBody>
          <a:bodyPr anchor="t">
            <a:normAutofit/>
          </a:bodyPr>
          <a:p>
            <a:pPr indent="0" algn="ctr">
              <a:lnSpc>
                <a:spcPct val="90000"/>
              </a:lnSpc>
              <a:spcBef>
                <a:spcPts val="400"/>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PMingLiU"/>
              </a:rPr>
              <a:t>Liquidity </a:t>
            </a:r>
            <a:endParaRPr b="0" lang="en-US" sz="1600" spc="-1" strike="noStrike">
              <a:solidFill>
                <a:srgbClr val="000000"/>
              </a:solidFill>
              <a:latin typeface="Arial"/>
            </a:endParaRPr>
          </a:p>
          <a:p>
            <a:pPr indent="0">
              <a:lnSpc>
                <a:spcPct val="90000"/>
              </a:lnSpc>
              <a:spcBef>
                <a:spcPts val="499"/>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Ability to meet short-term obligations</a:t>
            </a:r>
            <a:endParaRPr b="0" lang="en-US" sz="1600" spc="-1" strike="noStrike">
              <a:solidFill>
                <a:srgbClr val="000000"/>
              </a:solidFill>
              <a:latin typeface="Arial"/>
            </a:endParaRPr>
          </a:p>
          <a:p>
            <a:pPr indent="0">
              <a:lnSpc>
                <a:spcPct val="90000"/>
              </a:lnSpc>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i="1" lang="en-US" sz="1600" spc="-1" strike="noStrike">
                <a:solidFill>
                  <a:srgbClr val="000000"/>
                </a:solidFill>
                <a:latin typeface="Arial"/>
                <a:ea typeface="PMingLiU"/>
              </a:rPr>
              <a:t>Focus</a:t>
            </a:r>
            <a:r>
              <a:rPr b="1" lang="en-US" sz="1600" spc="-1" strike="noStrike">
                <a:solidFill>
                  <a:srgbClr val="000000"/>
                </a:solidFill>
                <a:latin typeface="Arial"/>
                <a:ea typeface="PMingLiU"/>
              </a:rPr>
              <a:t>: </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Financial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ondition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cash flow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Liquidity of assets</a:t>
            </a:r>
            <a:endParaRPr b="0" lang="en-US" sz="1600" spc="-1" strike="noStrike">
              <a:solidFill>
                <a:srgbClr val="000000"/>
              </a:solidFill>
              <a:latin typeface="Arial"/>
            </a:endParaRPr>
          </a:p>
        </p:txBody>
      </p:sp>
      <p:sp>
        <p:nvSpPr>
          <p:cNvPr id="233" name="PlaceHolder 3"/>
          <p:cNvSpPr>
            <a:spLocks noGrp="1"/>
          </p:cNvSpPr>
          <p:nvPr>
            <p:ph/>
          </p:nvPr>
        </p:nvSpPr>
        <p:spPr>
          <a:xfrm>
            <a:off x="4648320" y="2666880"/>
            <a:ext cx="3657600" cy="2895840"/>
          </a:xfrm>
          <a:prstGeom prst="rect">
            <a:avLst/>
          </a:prstGeom>
          <a:solidFill>
            <a:srgbClr val="ffffff"/>
          </a:solidFill>
          <a:ln w="76320">
            <a:solidFill>
              <a:srgbClr val="000000"/>
            </a:solidFill>
            <a:miter/>
          </a:ln>
        </p:spPr>
        <p:txBody>
          <a:bodyPr lIns="92160" rIns="92160" tIns="46080" bIns="46080" anchor="t">
            <a:normAutofit/>
          </a:bodyPr>
          <a:p>
            <a:pPr indent="0" algn="ctr">
              <a:lnSpc>
                <a:spcPct val="90000"/>
              </a:lnSpc>
              <a:spcBef>
                <a:spcPts val="451"/>
              </a:spcBef>
              <a:spcAft>
                <a:spcPts val="1125"/>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PMingLiU"/>
              </a:rPr>
              <a:t>Solvency</a:t>
            </a:r>
            <a:endParaRPr b="0" lang="en-US" sz="1800" spc="-1" strike="noStrike">
              <a:solidFill>
                <a:srgbClr val="000000"/>
              </a:solidFill>
              <a:latin typeface="Arial"/>
            </a:endParaRPr>
          </a:p>
          <a:p>
            <a:pPr indent="0">
              <a:lnSpc>
                <a:spcPct val="90000"/>
              </a:lnSpc>
              <a:spcBef>
                <a:spcPts val="561"/>
              </a:spcBef>
              <a:spcAft>
                <a:spcPts val="224"/>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bility to meet long-term obligations</a:t>
            </a:r>
            <a:endParaRPr b="0" lang="en-US" sz="1800" spc="-1" strike="noStrike">
              <a:solidFill>
                <a:srgbClr val="000000"/>
              </a:solidFill>
              <a:latin typeface="Arial"/>
            </a:endParaRPr>
          </a:p>
          <a:p>
            <a:pPr indent="0">
              <a:lnSpc>
                <a:spcPct val="90000"/>
              </a:lnSpc>
              <a:spcAft>
                <a:spcPts val="1063"/>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  </a:t>
            </a:r>
            <a:r>
              <a:rPr b="1" i="1" lang="en-US" sz="1700" spc="-1" strike="noStrike">
                <a:solidFill>
                  <a:srgbClr val="000000"/>
                </a:solidFill>
                <a:latin typeface="Arial"/>
                <a:ea typeface="PMingLiU"/>
              </a:rPr>
              <a:t>Focus</a:t>
            </a:r>
            <a:r>
              <a:rPr b="1" lang="en-US" sz="1700" spc="-1" strike="noStrike">
                <a:solidFill>
                  <a:srgbClr val="000000"/>
                </a:solidFill>
                <a:latin typeface="Arial"/>
                <a:ea typeface="PMingLiU"/>
              </a:rPr>
              <a:t>:</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financial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condition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cash flow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Extended profitability</a:t>
            </a:r>
            <a:endParaRPr b="0" lang="en-US" sz="1700" spc="-1" strike="noStrike">
              <a:solidFill>
                <a:srgbClr val="000000"/>
              </a:solidFill>
              <a:latin typeface="Arial"/>
            </a:endParaRPr>
          </a:p>
        </p:txBody>
      </p:sp>
      <p:sp>
        <p:nvSpPr>
          <p:cNvPr id="234" name="Text Box 5"/>
          <p:cNvSpPr/>
          <p:nvPr/>
        </p:nvSpPr>
        <p:spPr>
          <a:xfrm>
            <a:off x="304920" y="1253160"/>
            <a:ext cx="8534160" cy="648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redit worthiness: Ability to honor credit obligations</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ownside risk)</a:t>
            </a:r>
            <a:endParaRPr b="0" lang="en-US" sz="1800" spc="-1" strike="noStrike">
              <a:solidFill>
                <a:srgbClr val="000000"/>
              </a:solidFill>
              <a:latin typeface="Arial"/>
            </a:endParaRPr>
          </a:p>
        </p:txBody>
      </p:sp>
      <p:sp>
        <p:nvSpPr>
          <p:cNvPr id="235" name="Line 6"/>
          <p:cNvSpPr/>
          <p:nvPr/>
        </p:nvSpPr>
        <p:spPr>
          <a:xfrm flipH="1">
            <a:off x="27432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Line 7"/>
          <p:cNvSpPr/>
          <p:nvPr/>
        </p:nvSpPr>
        <p:spPr>
          <a:xfrm>
            <a:off x="57150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Ratio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are the center of traditional credit analysis that assesses whether a company can re-pay loans.  These ratios should be compared to benchmarks.</a:t>
            </a:r>
            <a:endParaRPr b="0" lang="en-US" sz="1600" spc="-1" strike="noStrike">
              <a:solidFill>
                <a:srgbClr val="000000"/>
              </a:solidFill>
              <a:latin typeface="Arial"/>
            </a:endParaRPr>
          </a:p>
          <a:p>
            <a:pPr lvl="1" marL="847080" indent="-22932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y</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back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from Operations to Total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 (Include Short-term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ebt to Market Capit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age [Cash Flow/(Interest + Princip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Investmen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Capital Expenditur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to Curr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Inventory to Current Liabiliti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orking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Cash and Temporary Securities minus Current liabilities less Short-term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Assessmen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rofile (Matur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Lines (Availability, amount, maturity, covenants, trigger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 Balance Sheet Obligations (Guarantees, support, take-or-pay contracts, conting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Sources of Liquidity (Asset sales, dividend flexibility, capital spending flexibility)</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42" name="Object 3"/>
          <p:cNvGraphicFramePr/>
          <p:nvPr/>
        </p:nvGraphicFramePr>
        <p:xfrm>
          <a:off x="1752480" y="1981080"/>
          <a:ext cx="5105520" cy="4208760"/>
        </p:xfrm>
        <a:graphic>
          <a:graphicData uri="http://schemas.openxmlformats.org/presentationml/2006/ole">
            <p:oleObj progId="Excel.Sheet.12" r:id="rId1" spid="">
              <p:embed/>
              <p:pic>
                <p:nvPicPr>
                  <p:cNvPr id="243"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44"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o Definitions</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Benchmarks</a:t>
            </a:r>
            <a:endParaRPr b="1" lang="en-US" sz="2000" spc="-1" strike="noStrike">
              <a:solidFill>
                <a:srgbClr val="000000"/>
              </a:solidFill>
              <a:latin typeface="Arial"/>
            </a:endParaRPr>
          </a:p>
        </p:txBody>
      </p:sp>
      <p:pic>
        <p:nvPicPr>
          <p:cNvPr id="248" name="Picture 3" descr=""/>
          <p:cNvPicPr/>
          <p:nvPr/>
        </p:nvPicPr>
        <p:blipFill>
          <a:blip r:embed="rId1"/>
          <a:stretch/>
        </p:blipFill>
        <p:spPr>
          <a:xfrm>
            <a:off x="380880" y="1143000"/>
            <a:ext cx="5181840" cy="3038400"/>
          </a:xfrm>
          <a:prstGeom prst="rect">
            <a:avLst/>
          </a:prstGeom>
          <a:ln w="0">
            <a:noFill/>
          </a:ln>
        </p:spPr>
      </p:pic>
      <p:pic>
        <p:nvPicPr>
          <p:cNvPr id="249" name="Picture 4" descr=""/>
          <p:cNvPicPr/>
          <p:nvPr/>
        </p:nvPicPr>
        <p:blipFill>
          <a:blip r:embed="rId2"/>
          <a:stretch/>
        </p:blipFill>
        <p:spPr>
          <a:xfrm>
            <a:off x="3733920" y="3267000"/>
            <a:ext cx="4952880" cy="290520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Gauge Credit Rating</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ratios are shown next to the achieved ratios.  Concentrate on Funds from operations ratios.</a:t>
            </a:r>
            <a:endParaRPr b="0" lang="en-US" sz="1800" spc="-1" strike="noStrike">
              <a:solidFill>
                <a:srgbClr val="000000"/>
              </a:solidFill>
              <a:latin typeface="Arial"/>
            </a:endParaRPr>
          </a:p>
        </p:txBody>
      </p:sp>
      <p:pic>
        <p:nvPicPr>
          <p:cNvPr id="252" name="Picture 4" descr="credit measures"/>
          <p:cNvPicPr/>
          <p:nvPr/>
        </p:nvPicPr>
        <p:blipFill>
          <a:blip r:embed="rId1"/>
          <a:stretch/>
        </p:blipFill>
        <p:spPr>
          <a:xfrm>
            <a:off x="3200400" y="2400480"/>
            <a:ext cx="4800600" cy="3600360"/>
          </a:xfrm>
          <a:prstGeom prst="rect">
            <a:avLst/>
          </a:prstGeom>
          <a:ln w="0">
            <a:noFill/>
          </a:ln>
        </p:spPr>
      </p:pic>
      <p:sp>
        <p:nvSpPr>
          <p:cNvPr id="253" name="Text Box 5"/>
          <p:cNvSpPr/>
          <p:nvPr/>
        </p:nvSpPr>
        <p:spPr>
          <a:xfrm>
            <a:off x="533520" y="3657600"/>
            <a:ext cx="2133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based on business profile scores published by S&amp;P</a:t>
            </a:r>
            <a:endParaRPr b="0" lang="en-US" sz="1200" spc="-1" strike="noStrike">
              <a:solidFill>
                <a:srgbClr val="000000"/>
              </a:solidFill>
              <a:latin typeface="Arial"/>
            </a:endParaRPr>
          </a:p>
        </p:txBody>
      </p:sp>
      <p:sp>
        <p:nvSpPr>
          <p:cNvPr id="254" name="Line 6"/>
          <p:cNvSpPr/>
          <p:nvPr/>
        </p:nvSpPr>
        <p:spPr>
          <a:xfrm>
            <a:off x="1447920" y="4572000"/>
            <a:ext cx="190476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56" name="Picture 3" descr=""/>
          <p:cNvPicPr/>
          <p:nvPr/>
        </p:nvPicPr>
        <p:blipFill>
          <a:blip r:embed="rId1"/>
          <a:stretch/>
        </p:blipFill>
        <p:spPr>
          <a:xfrm>
            <a:off x="5257800" y="1371600"/>
            <a:ext cx="3656160" cy="4648320"/>
          </a:xfrm>
          <a:prstGeom prst="rect">
            <a:avLst/>
          </a:prstGeom>
          <a:ln w="0">
            <a:noFill/>
          </a:ln>
        </p:spPr>
      </p:pic>
      <p:pic>
        <p:nvPicPr>
          <p:cNvPr id="257" name="Picture 4" descr=""/>
          <p:cNvPicPr/>
          <p:nvPr/>
        </p:nvPicPr>
        <p:blipFill>
          <a:blip r:embed="rId2"/>
          <a:stretch/>
        </p:blipFill>
        <p:spPr>
          <a:xfrm>
            <a:off x="457200" y="1560600"/>
            <a:ext cx="5872320" cy="2433600"/>
          </a:xfrm>
          <a:prstGeom prst="rect">
            <a:avLst/>
          </a:prstGeom>
          <a:ln w="0">
            <a:noFill/>
          </a:ln>
        </p:spPr>
      </p:pic>
      <p:sp>
        <p:nvSpPr>
          <p:cNvPr id="258"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520"/>
            <a:ext cx="2982960" cy="4056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a:t>
            </a:r>
            <a:endParaRPr b="1" lang="en-US" sz="2000" spc="-1" strike="noStrike">
              <a:solidFill>
                <a:srgbClr val="000000"/>
              </a:solidFill>
              <a:latin typeface="Arial"/>
            </a:endParaRPr>
          </a:p>
        </p:txBody>
      </p:sp>
      <p:pic>
        <p:nvPicPr>
          <p:cNvPr id="26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a:t>
            </a:r>
            <a:endParaRPr b="1" lang="en-US" sz="1800" spc="-1" strike="noStrike">
              <a:solidFill>
                <a:srgbClr val="000000"/>
              </a:solidFill>
              <a:latin typeface="Arial"/>
            </a:endParaRPr>
          </a:p>
        </p:txBody>
      </p:sp>
      <p:sp>
        <p:nvSpPr>
          <p:cNvPr id="10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rends in EBITDA, EBIT, EBT and Net Income and explain what is happening to the company</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ncludes operating earnings and other income, but it does not include foreign exchange gains or losses, minority interest, extraordinary income or interes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a rough proxy for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not generally shown on Income Statemen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djustments for items such as exploration expens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EBIT to Net Assets and Net Capital</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EBITDA to Revenues should be shown for historic and projected peri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lated to un-levered cash flow while Net Income and EPS are after leverag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is computed by EBIT less adjusted taxes, where taxes are computed through adjusting income taxes.</a:t>
            </a: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838080" y="2089080"/>
            <a:ext cx="7010640" cy="4083120"/>
          </a:xfrm>
          <a:prstGeom prst="rect">
            <a:avLst/>
          </a:prstGeom>
          <a:ln w="0">
            <a:noFill/>
          </a:ln>
        </p:spPr>
      </p:pic>
      <p:sp>
        <p:nvSpPr>
          <p:cNvPr id="267" name="Line 3"/>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Text Box 4"/>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269" name="Picture 5" descr=""/>
          <p:cNvPicPr/>
          <p:nvPr/>
        </p:nvPicPr>
        <p:blipFill>
          <a:blip r:embed="rId2"/>
          <a:stretch/>
        </p:blipFill>
        <p:spPr>
          <a:xfrm>
            <a:off x="5457960" y="380880"/>
            <a:ext cx="3686040" cy="2257560"/>
          </a:xfrm>
          <a:prstGeom prst="rect">
            <a:avLst/>
          </a:prstGeom>
          <a:ln w="0">
            <a:noFill/>
          </a:ln>
        </p:spPr>
      </p:pic>
      <p:sp>
        <p:nvSpPr>
          <p:cNvPr id="270" name="Line 6"/>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7"/>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272" name="Picture 8" descr=""/>
          <p:cNvPicPr/>
          <p:nvPr/>
        </p:nvPicPr>
        <p:blipFill>
          <a:blip r:embed="rId3"/>
          <a:stretch/>
        </p:blipFill>
        <p:spPr>
          <a:xfrm>
            <a:off x="228600" y="304920"/>
            <a:ext cx="3657600" cy="2428920"/>
          </a:xfrm>
          <a:prstGeom prst="rect">
            <a:avLst/>
          </a:prstGeom>
          <a:ln w="0">
            <a:noFill/>
          </a:ln>
        </p:spPr>
      </p:pic>
      <p:sp>
        <p:nvSpPr>
          <p:cNvPr id="2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275"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346"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347"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348"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349"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350"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1"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2"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353"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354"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55"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356"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357"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58"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59"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360"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1"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2"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3"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4"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5"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366"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7"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8"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9"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70"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371"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72"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73"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374"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375"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376"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377"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378"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379"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380"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381"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382"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383"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384"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385"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386"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387"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388"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389"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390"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391"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392"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393"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394"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395"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396"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397"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398"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399"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00"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01"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02"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03"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04"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05"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06"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07"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08"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09"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10"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11"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12"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13"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414" name="Group 142"/>
          <p:cNvGrpSpPr/>
          <p:nvPr/>
        </p:nvGrpSpPr>
        <p:grpSpPr>
          <a:xfrm>
            <a:off x="909720" y="4774680"/>
            <a:ext cx="7629120" cy="79560"/>
            <a:chOff x="909720" y="4774680"/>
            <a:chExt cx="7629120" cy="79560"/>
          </a:xfrm>
        </p:grpSpPr>
        <p:sp>
          <p:nvSpPr>
            <p:cNvPr id="415"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7"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418"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41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21" name="Picture 3" descr=""/>
          <p:cNvPicPr/>
          <p:nvPr/>
        </p:nvPicPr>
        <p:blipFill>
          <a:blip r:embed="rId1"/>
          <a:stretch/>
        </p:blipFill>
        <p:spPr>
          <a:xfrm>
            <a:off x="1479600" y="1523880"/>
            <a:ext cx="6487920" cy="46483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42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Historic Credit Spreads</a:t>
            </a:r>
            <a:endParaRPr b="1" lang="en-US" sz="2000" spc="-1" strike="noStrike">
              <a:solidFill>
                <a:srgbClr val="000000"/>
              </a:solidFill>
              <a:latin typeface="Arial"/>
            </a:endParaRPr>
          </a:p>
        </p:txBody>
      </p:sp>
      <p:pic>
        <p:nvPicPr>
          <p:cNvPr id="426" name="Picture 3" descr="bond_yields"/>
          <p:cNvPicPr/>
          <p:nvPr/>
        </p:nvPicPr>
        <p:blipFill>
          <a:blip r:embed="rId1"/>
          <a:stretch/>
        </p:blipFill>
        <p:spPr>
          <a:xfrm>
            <a:off x="380880" y="1752480"/>
            <a:ext cx="3967200" cy="3400560"/>
          </a:xfrm>
          <a:prstGeom prst="rect">
            <a:avLst/>
          </a:prstGeom>
          <a:ln w="0">
            <a:noFill/>
          </a:ln>
        </p:spPr>
      </p:pic>
      <p:pic>
        <p:nvPicPr>
          <p:cNvPr id="427" name="Picture 4" descr="bond_yields1"/>
          <p:cNvPicPr/>
          <p:nvPr/>
        </p:nvPicPr>
        <p:blipFill>
          <a:blip r:embed="rId2"/>
          <a:stretch/>
        </p:blipFill>
        <p:spPr>
          <a:xfrm>
            <a:off x="5029200" y="685800"/>
            <a:ext cx="3763800" cy="2913120"/>
          </a:xfrm>
          <a:prstGeom prst="rect">
            <a:avLst/>
          </a:prstGeom>
          <a:ln w="0">
            <a:noFill/>
          </a:ln>
        </p:spPr>
      </p:pic>
      <p:pic>
        <p:nvPicPr>
          <p:cNvPr id="428" name="Picture 5" descr=""/>
          <p:cNvPicPr/>
          <p:nvPr/>
        </p:nvPicPr>
        <p:blipFill>
          <a:blip r:embed="rId3"/>
          <a:stretch/>
        </p:blipFill>
        <p:spPr>
          <a:xfrm>
            <a:off x="4952880" y="3809880"/>
            <a:ext cx="3762360" cy="253044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 for Utility Debt</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981080" y="1219320"/>
            <a:ext cx="5257800" cy="51829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Different Industries in Project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35"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36"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37"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39"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40"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 on Debt Facilities</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45"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6"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47"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8"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9"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50"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51"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52"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53"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54"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58"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6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4"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Computation of EBITDA</a:t>
            </a:r>
            <a:endParaRPr b="1" lang="en-US" sz="2000" spc="-1" strike="noStrike">
              <a:solidFill>
                <a:srgbClr val="000000"/>
              </a:solidFill>
              <a:latin typeface="Arial"/>
            </a:endParaRPr>
          </a:p>
        </p:txBody>
      </p:sp>
      <p:pic>
        <p:nvPicPr>
          <p:cNvPr id="110" name="Picture 4" descr=""/>
          <p:cNvPicPr/>
          <p:nvPr/>
        </p:nvPicPr>
        <p:blipFill>
          <a:blip r:embed="rId1"/>
          <a:stretch/>
        </p:blipFill>
        <p:spPr>
          <a:xfrm>
            <a:off x="1619280" y="1523880"/>
            <a:ext cx="621036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Picture 6"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46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469" name="Picture 3" descr=""/>
          <p:cNvPicPr/>
          <p:nvPr/>
        </p:nvPicPr>
        <p:blipFill>
          <a:blip r:embed="rId1"/>
          <a:stretch/>
        </p:blipFill>
        <p:spPr>
          <a:xfrm>
            <a:off x="3311640" y="685800"/>
            <a:ext cx="5354640" cy="56386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474" name="Picture 3"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476" name="Group 3"/>
          <p:cNvGrpSpPr/>
          <p:nvPr/>
        </p:nvGrpSpPr>
        <p:grpSpPr>
          <a:xfrm>
            <a:off x="1114560" y="1876320"/>
            <a:ext cx="6914880" cy="4295880"/>
            <a:chOff x="1114560" y="1876320"/>
            <a:chExt cx="6914880" cy="4295880"/>
          </a:xfrm>
        </p:grpSpPr>
        <p:sp>
          <p:nvSpPr>
            <p:cNvPr id="477"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0" name="Group 7"/>
            <p:cNvGrpSpPr/>
            <p:nvPr/>
          </p:nvGrpSpPr>
          <p:grpSpPr>
            <a:xfrm>
              <a:off x="1211400" y="2154240"/>
              <a:ext cx="6692760" cy="3906720"/>
              <a:chOff x="1211400" y="2154240"/>
              <a:chExt cx="6692760" cy="3906720"/>
            </a:xfrm>
          </p:grpSpPr>
          <p:sp>
            <p:nvSpPr>
              <p:cNvPr id="481"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72"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73" name="Group 200"/>
            <p:cNvGrpSpPr/>
            <p:nvPr/>
          </p:nvGrpSpPr>
          <p:grpSpPr>
            <a:xfrm>
              <a:off x="2035080" y="3214800"/>
              <a:ext cx="5534280" cy="2525760"/>
              <a:chOff x="2035080" y="3214800"/>
              <a:chExt cx="5534280" cy="2525760"/>
            </a:xfrm>
          </p:grpSpPr>
          <p:sp>
            <p:nvSpPr>
              <p:cNvPr id="674"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863"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32" name="Picture 3"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39"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40"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43"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945"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946" name="Text Box 13"/>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947" name="Text Box 14"/>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Text Box 15"/>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Text Box 16"/>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950" name="Text Box 17"/>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951" name="Line 18"/>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BITDA</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useful in its simplicity, and can be a good reference for comparison of debt and value, but it has weakness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 is more important than DA, because must use cash for replacing depreciation and amorits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edit analysis, EBITDA works better for low rated credits than high rated credits. (Moody’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a better measure for companies with long-lived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can be manipulated through accounting policies (operating expenses versus capital expenditur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gnores changes in working capital, does not consider required re-investment, says nothing about the quality of earnings, and it ignores unique attributes of industrie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958"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959"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960"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961"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962"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963"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964"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9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96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97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972" name="Object 3"/>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973"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987"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988"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989"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0"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991"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992"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994"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996"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9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2-06T01:28:59Z</dcterms:modified>
  <cp:revision>196</cp:revision>
  <dc:subject/>
  <dc:title>Financial Statement Analysis </dc:title>
</cp:coreProperties>
</file>